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35.xml"/><Relationship Id="rId7" Type="http://schemas.openxmlformats.org/officeDocument/2006/relationships/slide" Target="slide35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33.xml"/><Relationship Id="rId8" Type="http://schemas.openxmlformats.org/officeDocument/2006/relationships/slide" Target="slide34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19.xml"/><Relationship Id="rId4" Type="http://schemas.openxmlformats.org/officeDocument/2006/relationships/slide" Target="slide24.xml"/><Relationship Id="rId5" Type="http://schemas.openxmlformats.org/officeDocument/2006/relationships/slide" Target="slide1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8.xml"/><Relationship Id="rId13" Type="http://schemas.openxmlformats.org/officeDocument/2006/relationships/slide" Target="slide24.xml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4.xml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1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27.xml"/><Relationship Id="rId11" Type="http://schemas.openxmlformats.org/officeDocument/2006/relationships/slide" Target="slide27.xml"/><Relationship Id="rId12" Type="http://schemas.openxmlformats.org/officeDocument/2006/relationships/slide" Target="slide27.xm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2.xm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36.xml"/><Relationship Id="rId5" Type="http://schemas.openxmlformats.org/officeDocument/2006/relationships/slide" Target="slide1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2.xml"/><Relationship Id="rId3" Type="http://schemas.openxmlformats.org/officeDocument/2006/relationships/slide" Target="slide1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35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" Target="slide1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35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" Target="slide1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35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9.xml"/><Relationship Id="rId11" Type="http://schemas.openxmlformats.org/officeDocument/2006/relationships/slide" Target="slide40.xml"/><Relationship Id="rId12" Type="http://schemas.openxmlformats.org/officeDocument/2006/relationships/slide" Target="slide40.xm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38.xml"/><Relationship Id="rId8" Type="http://schemas.openxmlformats.org/officeDocument/2006/relationships/slide" Target="slide39.xml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38.xml"/><Relationship Id="rId8" Type="http://schemas.openxmlformats.org/officeDocument/2006/relationships/slide" Target="slide39.xml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5.xml"/><Relationship Id="rId5" Type="http://schemas.openxmlformats.org/officeDocument/2006/relationships/slide" Target="slide45.xml"/><Relationship Id="rId6" Type="http://schemas.openxmlformats.org/officeDocument/2006/relationships/slide" Target="slide1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35.xml"/><Relationship Id="rId10" Type="http://schemas.openxmlformats.org/officeDocument/2006/relationships/slide" Target="slide36.xml"/><Relationship Id="rId11" Type="http://schemas.openxmlformats.org/officeDocument/2006/relationships/slide" Target="slide37.xml"/><Relationship Id="rId12" Type="http://schemas.openxmlformats.org/officeDocument/2006/relationships/slide" Target="slide42.xml"/><Relationship Id="rId1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" Target="slide37.xml"/><Relationship Id="rId8" Type="http://schemas.openxmlformats.org/officeDocument/2006/relationships/slide" Target="slide42.xml"/><Relationship Id="rId9" Type="http://schemas.openxmlformats.org/officeDocument/2006/relationships/slide" Target="slide43.xml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5.xml"/><Relationship Id="rId5" Type="http://schemas.openxmlformats.org/officeDocument/2006/relationships/slide" Target="slide47.xml"/><Relationship Id="rId6" Type="http://schemas.openxmlformats.org/officeDocument/2006/relationships/slide" Target="slide48.xml"/><Relationship Id="rId7" Type="http://schemas.openxmlformats.org/officeDocument/2006/relationships/slide" Target="slide49.xml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5.xml"/><Relationship Id="rId5" Type="http://schemas.openxmlformats.org/officeDocument/2006/relationships/slide" Target="slide47.xml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slide" Target="slide1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35.xml"/><Relationship Id="rId7" Type="http://schemas.openxmlformats.org/officeDocument/2006/relationships/slide" Target="slide47.xml"/><Relationship Id="rId8" Type="http://schemas.openxmlformats.org/officeDocument/2006/relationships/slide" Target="slide49.xm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5.xml"/><Relationship Id="rId5" Type="http://schemas.openxmlformats.org/officeDocument/2006/relationships/slide" Target="slide47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5.xml"/><Relationship Id="rId5" Type="http://schemas.openxmlformats.org/officeDocument/2006/relationships/slide" Target="slide47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9.xml"/><Relationship Id="rId3" Type="http://schemas.openxmlformats.org/officeDocument/2006/relationships/slide" Target="slide53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52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uchumf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ermeh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8" idx="3"/>
            <a:endCxn id="102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bnorm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uchmuskel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wä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55440" y="54936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auchumfangsvermeh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rga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szite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8800" y="549360"/>
            <a:ext cx="706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onsti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5" idx="3"/>
            <a:endCxn id="16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0" name=""/>
          <p:cNvCxnSpPr>
            <a:stCxn id="165" idx="3"/>
            <a:endCxn id="16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ürli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3"/>
            <a:endCxn id="17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5" name=""/>
          <p:cNvCxnSpPr>
            <a:stCxn id="172" idx="3"/>
            <a:endCxn id="17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7" name=""/>
          <p:cNvCxnSpPr>
            <a:stCxn id="172" idx="3"/>
            <a:endCxn id="178" idx="1"/>
          </p:cNvCxnSpPr>
          <p:nvPr/>
        </p:nvCxnSpPr>
        <p:spPr>
          <a:xfrm flipV="1">
            <a:off x="3313080" y="2055600"/>
            <a:ext cx="2689920" cy="2026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1"/>
          </p:cNvCxnSpPr>
          <p:nvPr/>
        </p:nvCxnSpPr>
        <p:spPr>
          <a:xfrm>
            <a:off x="3313080" y="4081320"/>
            <a:ext cx="2689920" cy="20282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a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Chyl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4" idx="3"/>
            <a:endCxn id="185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blasenrup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a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8" idx="3"/>
            <a:endCxn id="19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3" name=""/>
          <p:cNvCxnSpPr>
            <a:stCxn id="188" idx="3"/>
            <a:endCxn id="19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ok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3"/>
            <a:endCxn id="19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upturierter 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ilzruptur nach 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efäßruptu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0" idx="3"/>
            <a:endCxn id="20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4" name=""/>
          <p:cNvCxnSpPr>
            <a:stCxn id="200" idx="3"/>
            <a:endCxn id="20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7" idx="3"/>
            <a:endCxn id="209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0" name=""/>
          <p:cNvCxnSpPr>
            <a:stCxn id="207" idx="3"/>
            <a:endCxn id="21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07" idx="3"/>
            <a:endCxn id="21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6" idx="3"/>
            <a:endCxn id="21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2" idx="3"/>
            <a:endCxn id="22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6" name=""/>
          <p:cNvCxnSpPr>
            <a:stCxn id="222" idx="3"/>
            <a:endCxn id="22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2" idx="3"/>
            <a:endCxn id="227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0" name=""/>
          <p:cNvCxnSpPr>
            <a:stCxn id="222" idx="3"/>
            <a:endCxn id="228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3" idx="3"/>
            <a:endCxn id="23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8" name=""/>
          <p:cNvCxnSpPr>
            <a:endCxn id="23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ga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stau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fga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2" name=""/>
          <p:cNvCxnSpPr>
            <a:stCxn id="107" idx="3"/>
            <a:endCxn id="113" idx="1"/>
          </p:cNvCxnSpPr>
          <p:nvPr/>
        </p:nvCxnSpPr>
        <p:spPr>
          <a:xfrm flipV="1">
            <a:off x="3313080" y="2055600"/>
            <a:ext cx="2689920" cy="2026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stCxn id="107" idx="3"/>
            <a:endCxn id="115" idx="1"/>
          </p:cNvCxnSpPr>
          <p:nvPr/>
        </p:nvCxnSpPr>
        <p:spPr>
          <a:xfrm>
            <a:off x="3313080" y="4080960"/>
            <a:ext cx="2689920" cy="20264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1008000" y="549360"/>
            <a:ext cx="47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rga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543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nfil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08080" y="54936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0" idx="3"/>
            <a:endCxn id="24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50120" y="549360"/>
            <a:ext cx="738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3"/>
            <a:endCxn id="24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2" idx="3"/>
            <a:endCxn id="25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55" name=""/>
          <p:cNvCxnSpPr>
            <a:stCxn id="252" idx="3"/>
            <a:endCxn id="25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6" idx="3"/>
            <a:endCxn id="26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Thrombozyt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08080" y="54936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Thrombozyt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equestr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0" idx="3"/>
            <a:endCxn id="27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prim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5" idx="3"/>
            <a:endCxn id="27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81" idx="3"/>
            <a:endCxn id="28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 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5" idx="3"/>
            <a:endCxn id="28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90" name=""/>
          <p:cNvCxnSpPr>
            <a:endCxn id="28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2" idx="3"/>
            <a:endCxn id="29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97" name=""/>
          <p:cNvCxnSpPr>
            <a:endCxn id="29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il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it Fet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3"/>
            <a:endCxn id="12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8" idx="3"/>
            <a:endCxn id="11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3" name=""/>
          <p:cNvCxnSpPr>
            <a:stCxn id="118" idx="3"/>
            <a:endCxn id="124" idx="1"/>
          </p:cNvCxnSpPr>
          <p:nvPr/>
        </p:nvCxnSpPr>
        <p:spPr>
          <a:xfrm flipV="1">
            <a:off x="3313080" y="2057040"/>
            <a:ext cx="2689920" cy="20246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5" name=""/>
          <p:cNvCxnSpPr>
            <a:stCxn id="118" idx="3"/>
            <a:endCxn id="126" idx="1"/>
          </p:cNvCxnSpPr>
          <p:nvPr/>
        </p:nvCxnSpPr>
        <p:spPr>
          <a:xfrm>
            <a:off x="3313080" y="4081320"/>
            <a:ext cx="2689920" cy="202824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1071360" y="549360"/>
            <a:ext cx="59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rganomega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fil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494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i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lyk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7840" y="54936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299" idx="3"/>
            <a:endCxn id="30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77840" y="54936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Bildung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4" idx="3"/>
            <a:endCxn id="30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33200" y="549360"/>
            <a:ext cx="755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ekundäre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Mangel an Gerinnungsfaktor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9" idx="3"/>
            <a:endCxn id="31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6" idx="3"/>
            <a:endCxn id="31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blasenruptu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Ur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21" idx="3"/>
            <a:endCxn id="322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yl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uptur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ctus thoracic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Chyl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3"/>
            <a:endCxn id="32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28" name=""/>
          <p:cNvCxnSpPr>
            <a:stCxn id="325" idx="3"/>
            <a:endCxn id="32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5" idx="3"/>
            <a:endCxn id="33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odifiz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onstige 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3"/>
            <a:endCxn id="33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37" name=""/>
          <p:cNvCxnSpPr>
            <a:stCxn id="334" idx="3"/>
            <a:endCxn id="33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ortale Hyperten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4" idx="3"/>
            <a:endCxn id="34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45" name=""/>
          <p:cNvCxnSpPr>
            <a:stCxn id="344" idx="3"/>
            <a:endCxn id="34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46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8" idx="3"/>
            <a:endCxn id="35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52" name=""/>
          <p:cNvCxnSpPr>
            <a:stCxn id="348" idx="3"/>
            <a:endCxn id="34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icht relevant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5" idx="3"/>
            <a:endCxn id="35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59" name=""/>
          <p:cNvCxnSpPr>
            <a:stCxn id="355" idx="3"/>
            <a:endCxn id="35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ynthese in 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 Fet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1240" y="549360"/>
            <a:ext cx="70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rganomega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filtr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it Fet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ische 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3" idx="3"/>
            <a:endCxn id="36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mgehung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7" idx="3"/>
            <a:endCxn id="37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lässigkei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3"/>
            <a:endCxn id="37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77" name=""/>
          <p:cNvCxnSpPr>
            <a:stCxn id="373" idx="3"/>
            <a:endCxn id="37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8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08080" y="549360"/>
            <a:ext cx="72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Gefäß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72440" y="549360"/>
            <a:ext cx="733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Flüssigkeit (Aszites)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nstige Flüssigkeit &gt; Transsudat &gt; Hypoalbuminämie &gt; Verlust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fäßdurchlässigkeit ↑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2" idx="3"/>
            <a:endCxn id="39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4480" y="54936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abnormer Inhalt &gt; Flüssigkeit (Aszites)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nstige Flüssigkeit &gt; Transsudat &gt; Hypoalbuminämie &gt; Verlust &gt; 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difiz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3"/>
            <a:endCxn id="39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99" name=""/>
          <p:cNvCxnSpPr>
            <a:stCxn id="396" idx="3"/>
            <a:endCxn id="400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chtsherz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odifiziertes 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x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erito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3" idx="3"/>
            <a:endCxn id="40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08" name=""/>
          <p:cNvCxnSpPr>
            <a:stCxn id="403" idx="3"/>
            <a:endCxn id="4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x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10" idx="3"/>
            <a:endCxn id="41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rito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ep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er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3"/>
            <a:endCxn id="41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420" name=""/>
          <p:cNvCxnSpPr>
            <a:stCxn id="416" idx="3"/>
            <a:endCxn id="41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eriton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it Glyk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9560" y="549360"/>
            <a:ext cx="77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rganomegal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filtr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it Glykoge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p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x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eritonit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ep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3" idx="3"/>
            <a:endCxn id="42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erforierender Fremdkörp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erforieren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-Darm-Ulc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er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08080" y="5493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Aszite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x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eritoniti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er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8" idx="3"/>
            <a:endCxn id="4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nkreat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u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44360" y="54936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u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3"/>
            <a:endCxn id="43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 mit gasbild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kteri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39" idx="3"/>
            <a:endCxn id="440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t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iposita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18800" y="549360"/>
            <a:ext cx="54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Fet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stau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71720" y="549360"/>
            <a:ext cx="62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rganomega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stau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rgandreh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9" idx="3"/>
            <a:endCxn id="14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3" name=""/>
          <p:cNvCxnSpPr>
            <a:stCxn id="139" idx="3"/>
            <a:endCxn id="144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chtsherz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gandreh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71360" y="549360"/>
            <a:ext cx="64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rganomega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lutstau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gandreh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3"/>
            <a:endCxn id="14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ga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9120" y="549360"/>
            <a:ext cx="60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rganomega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ufga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3"/>
            <a:endCxn id="15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dreh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lvul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norm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19520" y="5493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uchumfangsvermehr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normer In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0" name=""/>
          <p:cNvCxnSpPr>
            <a:stCxn id="156" idx="3"/>
            <a:endCxn id="16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et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6" idx="3"/>
            <a:endCxn id="16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(Aszite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u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6T17:15:30Z</dcterms:modified>
  <cp:revision>339</cp:revision>
  <dc:subject/>
  <dc:title>Vorstellung einer Neuheit</dc:title>
</cp:coreProperties>
</file>